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0A3-DD6C-4F05-87B2-E6EEC01D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585-13FA-48AD-B783-7D3A491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EAD-0F11-4ECD-889A-3E44A23C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D3D-69D5-40E7-9BA8-6520B15C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134-70D4-4ACA-925A-D7DBAE0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94D-F54B-41FB-97F3-BE0C3795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472-0B5F-4F6D-8C7D-462EA767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15E-2D3E-4683-B71B-A757191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FA0-6AD9-4D2E-BC6A-D3431D9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39F-A002-44DC-A9F3-9A7019D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9F2-B8BB-483D-A78B-758F3A8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3EE-5008-4E14-A567-60E9396E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CEF-5ABA-4291-8832-00968502D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 Update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as Mueller, T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Acknowledg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ny Y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 X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IR Cu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GD: Simon Tw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*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281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F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752480"/>
            <a:ext cx="2683080" cy="825480"/>
          </a:xfrm>
          <a:prstGeom prst="wedgeRectCallout">
            <a:avLst>
              <a:gd name="adj1" fmla="val -122296"/>
              <a:gd name="adj2" fmla="val 719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s download of literatu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971800"/>
            <a:ext cx="3058920" cy="1557000"/>
          </a:xfrm>
          <a:prstGeom prst="wedgeRectCallout">
            <a:avLst>
              <a:gd name="adj1" fmla="val -101680"/>
              <a:gd name="adj2" fmla="val -181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imple user interface for annotation tasks and stores all releva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5181480"/>
            <a:ext cx="4108320" cy="825480"/>
          </a:xfrm>
          <a:prstGeom prst="wedgeRectCallout">
            <a:avLst>
              <a:gd name="adj1" fmla="val -71675"/>
              <a:gd name="adj2" fmla="val -1453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s objects, such as artic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a 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Search is a literature annotation tool for biological data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a simple user interface and powerful feat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Search database stores the complete literature information of a model organism, along with the controlled vocabularies, gene and sequence information, and the associations between these data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ownload and install software and you are in the business of literature cur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New Hire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zad Mah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ed March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responsible for PubSearc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bioinformatic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rrey Mesa Research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lication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ublication about 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.org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ed the domain name http://PubSearch.or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Software improve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ed read-only/read-write accounts. Now accounts can be limited to just searching fo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commands for adding Communications or URL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ed selection of references in the annotation page.  All reference types have a uniform interface for sele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working on the improvement of the search interface. The plan is to separate out different search functions, but this is not yet relea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quence display now shows the associated genes to that 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Installation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a binary for outside consumption and sent that file to the GMOD site (http://www.gmod.org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ied installation with installation 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 Amigo browser, which allows selecting GO terms by clicking on them, not yet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Workshop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Curation Howt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 during the morning s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4:46:46Z</dcterms:created>
  <dc:creator>Lukas Mueller</dc:creator>
  <dc:description/>
  <dc:language>en-US</dc:language>
  <cp:lastModifiedBy>Lukas Mueller</cp:lastModifiedBy>
  <dcterms:modified xsi:type="dcterms:W3CDTF">2003-05-05T07:41:57Z</dcterms:modified>
  <cp:revision>6</cp:revision>
  <dc:subject/>
  <dc:title>PubSearch Update</dc:title>
</cp:coreProperties>
</file>